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E46C-EBB9-4AE8-AF4D-615A13C01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image from: http://www.123rf.com/photo_16720792_abstract-word-cloud-for-central-nervous-system-with-related-tags-and-ter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inges = 3 layers of connective tissue that surround &amp; protect the brain &amp; spinal 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online.us/Online%20A&amp;P/AP%202/Northland/AP2lab/Lab%201%20online/lab%202/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ubblews.com/news/214529-myths-about-the-brain-the-human-brain-is-the-biggest-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rainexplorer.org/glossary/hindbrain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eurosurgerypa.com/anatomy/neuro_br_cerebru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2.nicerweb.com/Locked/media/ch49/brain-lob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68D-AA11-4173-8CA0-AF3B97C5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2C4-3670-49F1-9F1E-2A4C87FA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016-ED03-44BB-9CE2-C919C83D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7E0-5AB4-4C39-8FCC-485B66E6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AD4-9A4E-4C9D-A3A5-D6F8508D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D75-4926-4179-A2F3-2B99870C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148B-B509-4E98-83A3-08D6239B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A8D-EC39-45B7-8E93-D0D51D13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14B-E58F-4BB0-8FC4-99506D48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CC9-E5CD-4544-8E57-719FF8E6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5627-8006-437D-BD3C-5FDBA30F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011-58A9-45CD-9771-27A38514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9AD9-B637-4526-B676-92B0B4C69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629400" y="56383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 &amp; spinal 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ed &amp; prot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in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rospinal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as the control centre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s impulses between the brain and the P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interneuron circuits of refl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xons) &amp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ell bodies &amp; dendri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2741760"/>
            <a:ext cx="449568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57320" y="1981080"/>
            <a:ext cx="522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u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long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nnects spinal cord to cerebell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ebell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volved in muscle movement &amp; bal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nnects cerebellum to higher cent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730520"/>
            <a:ext cx="426708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ebr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ost developed part of 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most sensory &amp; moto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1724040"/>
            <a:ext cx="43434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al Cort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54160" y="1828800"/>
            <a:ext cx="6757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03:10:35Z</dcterms:created>
  <dc:creator>rubina khan</dc:creator>
  <dc:description/>
  <dc:language>en-US</dc:language>
  <cp:lastModifiedBy>rubina khan</cp:lastModifiedBy>
  <dcterms:modified xsi:type="dcterms:W3CDTF">2013-05-29T03:39:23Z</dcterms:modified>
  <cp:revision>32</cp:revision>
  <dc:subject/>
  <dc:title>The Central Nervous System</dc:title>
</cp:coreProperties>
</file>